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9A8B-71E3-445C-BE81-78326080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1B04-3F50-4381-BE22-44AF3D34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C2D8-3185-485C-80C8-288919E0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720B-5EF7-4910-A8F5-F8536CDF0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2E08-8D06-42E8-833F-4819D1864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B3E9-2244-4031-A2DC-334F5C60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E825-6A7E-4728-A0B6-9ED608319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C03C-267A-4F50-858A-598676B9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5769-515B-4541-9F3E-0427B82B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12DA-14E3-462F-8F95-0C97DFCE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C46D-CD65-475E-B4D2-63D98FAD6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3BCF-AD08-409A-B5A4-4699FF27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6394-4EA1-4E37-8723-18EE117FC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295280"/>
            <a:ext cx="3733920" cy="685800"/>
          </a:xfrm>
          <a:prstGeom prst="cloudCallout">
            <a:avLst>
              <a:gd name="adj1" fmla="val -38902"/>
              <a:gd name="adj2" fmla="val 16087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2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4713120"/>
            <a:ext cx="3581280" cy="48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 reci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4-11-07T16:47:07Z</dcterms:modified>
  <cp:revision>43</cp:revision>
  <dc:subject/>
  <dc:title>PowerPoint Presentation</dc:title>
</cp:coreProperties>
</file>