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92671"/>
        <c:axId val="38858143"/>
      </c:barChart>
      <c:catAx>
        <c:axId val="95592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58143"/>
        <c:crosses val="autoZero"/>
        <c:auto val="1"/>
        <c:lblAlgn val="ctr"/>
        <c:lblOffset val="100"/>
        <c:noMultiLvlLbl val="0"/>
      </c:catAx>
      <c:valAx>
        <c:axId val="38858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92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189-FE4E-4D9F-8C7E-FD1C8F72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E81-75D1-4BCC-A372-10A8084B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596-2B91-4006-B46C-FC3CC0DF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F06-364D-43E1-9A67-224BC37E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652-9356-4EE5-8C8C-491975D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5F6-529A-43AC-BA1A-3E2EFA3A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11D-F62F-4E71-8EA5-D46D10AF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851-56A7-4486-8EFF-1E8F761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BD9-4A7E-4D01-991C-151E56F5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DAE-FC5E-429F-8559-077117CB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B8F-833E-4F55-ADAD-F64EE64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91A-7195-4258-978E-99BCE1C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AD9E0-0DCD-404D-A0E3-6957C1AD66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