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120752"/>
        <c:axId val="14547773"/>
      </c:barChart>
      <c:catAx>
        <c:axId val="591207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547773"/>
        <c:crosses val="autoZero"/>
        <c:auto val="1"/>
        <c:lblAlgn val="ctr"/>
        <c:lblOffset val="100"/>
        <c:noMultiLvlLbl val="0"/>
      </c:catAx>
      <c:valAx>
        <c:axId val="145477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1207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65C2-298A-4CE4-A368-F0D92195F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00B0-C473-43DB-8E44-2CBC6B39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87C1-5367-4DE6-8270-BD4517152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1622-D02D-4D02-96B0-ED8E42C73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EA9E-1A15-4179-99C4-455DEACC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2B21-C696-4D75-9E62-D77D61DE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D294-D9AA-4E80-A7C2-F42A7692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9B77-4428-4766-BD31-2C319873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1CDF-58F1-44DF-B9C5-0AB2899B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14C2-CA8C-4C90-ABE1-A239DA75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C9C6-0FEB-4CFE-92DD-1372D986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293E-7280-4EFA-ADD7-811C86EA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BBE5D9-7C6D-4965-9F03-235EC186F9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