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5200"/>
        <c:axId val="748016"/>
      </c:barChart>
      <c:catAx>
        <c:axId val="6365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016"/>
        <c:crosses val="autoZero"/>
        <c:auto val="1"/>
        <c:lblAlgn val="ctr"/>
        <c:lblOffset val="100"/>
        <c:noMultiLvlLbl val="0"/>
      </c:catAx>
      <c:valAx>
        <c:axId val="748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5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999-61C9-4F7F-9908-D0E6F48F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2CC-E6AE-497B-9017-D387BCA9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768-BC3F-477D-A1C6-1085ED71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F53-7BA0-46CA-B4AE-B748B205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6DD-6F26-45F0-8412-FDA171FC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E2C-AE6F-4591-8BF6-5C6CB3D9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5C9-0F3F-4F80-90FA-688079B2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8FF-07B3-4A1C-BAAC-90CD5276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716-D66D-48AD-985C-BB17E825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B12-3EB3-4B71-AD8D-19B85F9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C8E-0601-4359-A605-9234E41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31B-0F1F-4554-916E-D5D85100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C1359-E9E1-4800-BC80-AA1C33723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