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16629"/>
        <c:axId val="92519724"/>
      </c:barChart>
      <c:catAx>
        <c:axId val="66716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19724"/>
        <c:crosses val="autoZero"/>
        <c:auto val="1"/>
        <c:lblAlgn val="ctr"/>
        <c:lblOffset val="100"/>
        <c:noMultiLvlLbl val="0"/>
      </c:catAx>
      <c:valAx>
        <c:axId val="92519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16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59B-3B86-4513-BE21-BD37DA77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B07-3B32-40F0-B165-18C4DDE2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B14-69D1-4F5F-8754-1AA43A87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E6C-2FBD-4460-A103-35F90ED8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709-3AE4-414D-867C-7DB86B1B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8A0-3CED-435C-9CB0-8D348858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01B-43DB-406D-95F5-AF6DEB26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B15-D33E-4B1A-BC42-07CB8922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7C2-F8B8-424B-ABCD-D00B6B71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A0D-DD43-4CA3-8700-FAB60447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7DB-B70C-4CE1-882F-7B8F2374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132-83B1-4FB7-A25C-FB10CD71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A96F8-21BF-401C-A0F7-87B855A438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