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06123"/>
        <c:axId val="80187181"/>
      </c:barChart>
      <c:catAx>
        <c:axId val="57306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87181"/>
        <c:crosses val="autoZero"/>
        <c:auto val="1"/>
        <c:lblAlgn val="ctr"/>
        <c:lblOffset val="100"/>
        <c:noMultiLvlLbl val="0"/>
      </c:catAx>
      <c:valAx>
        <c:axId val="80187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06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C4F-4D5D-4662-8D94-120D6FCB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9B6-2FB8-44D0-98E0-EF6BBAC8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F9A-85C0-4C77-82B3-9CBA2509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FB9-2B35-4ED5-82BE-EF9CD1E3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7D3-18A0-4A36-9521-E84FF588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4DD-363B-42C1-BF2F-A57B9E6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628-7883-4663-909A-8AFDB679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12D-AEC0-4643-8739-A2BD981A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C7C-71B5-4D3F-B966-182136C3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67C-BFB8-494D-831A-AB22FAF2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D31-77DD-4EE0-BDAE-C58D7B62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C7E-3B53-4DEF-9F8C-3EB8837A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07E6C-F00D-4B39-A495-608E4E4B19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